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24743"/>
        <c:axId val="26467230"/>
      </c:barChart>
      <c:catAx>
        <c:axId val="43324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67230"/>
        <c:crosses val="autoZero"/>
        <c:auto val="1"/>
        <c:lblAlgn val="ctr"/>
        <c:lblOffset val="100"/>
        <c:noMultiLvlLbl val="0"/>
      </c:catAx>
      <c:valAx>
        <c:axId val="26467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4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E2B-7CA1-45B4-9DEF-10DF3811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E9F-DB45-4480-AF47-2E7A011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F5E-12FC-46B0-BC90-406BD16A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766-650D-4942-90F1-F00C5C7E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50E-7F6E-4EBB-B654-63ABFC46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D2A-AF4E-4F00-82B7-143CF31A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5E4-60D3-4C09-8624-69F62DA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9F0-0CF1-4234-B9B8-2367590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D90-94A4-4A0C-AE66-7C7A4C12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7BE-456C-48C6-AD4B-FD29B4C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41C-F35F-47FF-80C2-1E29F0A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C67-4F6A-4DB8-8C56-05AB7B6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EF15F-EACD-4D82-9801-1EDF8770CD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