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85712"/>
        <c:axId val="44698874"/>
      </c:barChart>
      <c:catAx>
        <c:axId val="32785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98874"/>
        <c:crosses val="autoZero"/>
        <c:auto val="1"/>
        <c:lblAlgn val="ctr"/>
        <c:lblOffset val="100"/>
        <c:noMultiLvlLbl val="0"/>
      </c:catAx>
      <c:valAx>
        <c:axId val="44698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85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2F4-F934-4E81-8763-39D2FF40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5FD-DD28-42C6-A419-98B5F851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72F-1EC8-4AF3-A553-41925A22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C65-D979-48BE-B9CF-C4204FB1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034-841F-415C-98F8-72F36EE0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899-F83F-4D99-A3DF-3182D9B9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D4B-D81A-400E-B8F3-90E8A67B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0CE-C815-4EF7-8A89-5DDD46AC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23A-669C-42F4-BF0A-043AD451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FCD-DFA3-49DA-B4D9-3D32C161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4DE-39D0-400A-85F1-3519C26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163-15C4-4D8D-AB2C-463E8A38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825D0-A97E-4530-8030-B86805EA9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