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609550"/>
        <c:axId val="602846"/>
      </c:barChart>
      <c:catAx>
        <c:axId val="866095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2846"/>
        <c:crosses val="autoZero"/>
        <c:auto val="1"/>
        <c:lblAlgn val="ctr"/>
        <c:lblOffset val="100"/>
        <c:noMultiLvlLbl val="0"/>
      </c:catAx>
      <c:valAx>
        <c:axId val="6028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6095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E97A-6BDC-46E1-BE73-380C21AB2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E48F-9FCF-45E0-A852-E84C8E68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9DF3-757D-477A-9F79-96DBD4597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4ADD-89F1-4FF9-AA3E-80ABA5BB7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2641-4D80-415A-9E4F-0ACB4BDA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9B2A-8B0D-4564-A2D5-FBC2B8AA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0206-7A05-4983-93CB-6DC5E2A5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3F7E-68FC-4475-84FC-31B2FCAB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A3D3-5151-4EC8-B254-E078AEEE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0C88-F730-49EE-ADEC-5E3BED69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C54A-5DB8-4513-A02A-740DB842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BA7C-F9ED-4DDC-962B-0EADAD8A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B62964-2630-4AA5-B6B4-4C5A4979EB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