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298037"/>
        <c:axId val="33870389"/>
      </c:barChart>
      <c:catAx>
        <c:axId val="852980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870389"/>
        <c:crosses val="autoZero"/>
        <c:auto val="1"/>
        <c:lblAlgn val="ctr"/>
        <c:lblOffset val="100"/>
        <c:noMultiLvlLbl val="0"/>
      </c:catAx>
      <c:valAx>
        <c:axId val="338703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2980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0900-8737-480A-962A-0634A0EC4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90B6-DB58-4D71-BAF3-133EF181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C6F6-9F9F-4B0B-AD3F-F072AAD66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E5D6-B458-4953-808B-117456B88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8EE3-A11B-4A3B-BDFA-2240A079E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812B-A710-415E-A36F-4C4BF3CDC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F540-257E-45DC-81F9-E7F353FE7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C353-DA20-4EAC-90DD-49B9414A7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CC3B-D9E0-49B2-B77A-B1CF6EAE6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5A39-B443-4F98-8501-553DE222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CF27-7218-49E5-A8BA-11684022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B22C-182C-4D72-A0C2-8E4A5E4B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592DB9-07CC-4AE4-BB88-881497F73DB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