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99809"/>
        <c:axId val="81029520"/>
      </c:barChart>
      <c:catAx>
        <c:axId val="65899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9520"/>
        <c:crosses val="autoZero"/>
        <c:auto val="1"/>
        <c:lblAlgn val="ctr"/>
        <c:lblOffset val="100"/>
        <c:noMultiLvlLbl val="0"/>
      </c:catAx>
      <c:valAx>
        <c:axId val="81029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99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F0B-6952-47B9-8732-53256CF0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A37-B30C-41E5-B1CD-CAD63C1A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3D3-3BC5-4D4E-BB35-90A49D32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8B3-557D-4C2C-A7B1-F675AF75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A34-9807-4FA9-8978-DE29A336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234-19C5-417F-916D-AB0FB93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8BF-43DD-4335-8A50-129CBCAD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EEA-3956-416C-8A36-2D4AF5A2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79F-12CC-49B4-BA5D-9F72B5BC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27C-4F26-4CE7-824E-92F795D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ED5-3A1D-4957-A9E5-2EB2064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A68-C59B-4130-8FB3-22AE92C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A8255-2506-42AC-8487-BAAFD76DDA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