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21005"/>
        <c:axId val="68518308"/>
      </c:barChart>
      <c:catAx>
        <c:axId val="79221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18308"/>
        <c:crosses val="autoZero"/>
        <c:auto val="1"/>
        <c:lblAlgn val="ctr"/>
        <c:lblOffset val="100"/>
        <c:noMultiLvlLbl val="0"/>
      </c:catAx>
      <c:valAx>
        <c:axId val="685183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21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7A3-E2E5-4D92-8924-8492DC4D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B82-6CAF-4C68-B073-BBCEEF69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AD7-D63B-405D-B6D6-1C56DB53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3C15-6D16-43AD-98F2-98A5F38E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5DE4-0D5C-452F-AF36-5213FD7D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A44-AF36-4EF8-8F5B-E75C6729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B87-8993-43F0-A5F7-C849ABC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E6D5-F9C9-47E0-827D-027831E5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A06-2B82-4CA0-8AC3-240B7212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879-8A08-4B8F-B03C-246841A4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763-8DBD-490D-B544-E07C1B82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6184-8AFD-44B4-9D4C-0048A05C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5134F-A83B-46DA-9412-DC371B54F9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