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72092"/>
        <c:axId val="35279139"/>
      </c:barChart>
      <c:catAx>
        <c:axId val="37572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79139"/>
        <c:crosses val="autoZero"/>
        <c:auto val="1"/>
        <c:lblAlgn val="ctr"/>
        <c:lblOffset val="100"/>
        <c:noMultiLvlLbl val="0"/>
      </c:catAx>
      <c:valAx>
        <c:axId val="35279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72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1FE-4EEF-4780-AB19-6518FEB9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449-1B9E-40AA-A7B9-6F97FC0C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5F5-A2EB-4EDF-87D5-9720FE3E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BA2-CC61-4489-A450-6D21A39D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530-162E-4AA5-87E0-86B91A66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F64-3F2C-41FE-9E54-AAF82E8E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3B4-333A-4259-8503-20B915BE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B05-3F9B-4AFC-8261-8828A4C1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B28-8C67-4A86-80E3-4B00F63E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4C8-9799-4C01-9779-D29E6C11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D9C-57D6-4CDE-AC32-3FAC62B0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CB7-A54C-4CB0-9BD3-A95810E4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1F441-D031-475C-8BF8-5038B9586A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