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15760"/>
        <c:axId val="46394138"/>
      </c:barChart>
      <c:catAx>
        <c:axId val="51015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94138"/>
        <c:crosses val="autoZero"/>
        <c:auto val="1"/>
        <c:lblAlgn val="ctr"/>
        <c:lblOffset val="100"/>
        <c:noMultiLvlLbl val="0"/>
      </c:catAx>
      <c:valAx>
        <c:axId val="46394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15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F87-0AFC-4978-B4BD-502BA3C9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1C5-DA2D-40E9-8135-F9FEFEA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FAF-89DE-4D8B-8D43-BE0D19A1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935-C014-4395-8E00-663506C5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D83-045B-43BB-87A6-7BEBBBAA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BD4-3C91-4EC0-BD3B-2541A1C2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DE8-BC32-417A-9F59-B6D9A6DE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7D2-F88D-4EFF-97F8-11D9FD25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DA9-B827-42AF-B7AA-988217B0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D82-498D-443E-A106-8C565A2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4AA-7B84-4CC2-A1EE-15E1902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080-5B30-4697-A9A3-4242B96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825CD-11C4-4EDC-8A04-7F46E7961C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