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62459"/>
        <c:axId val="13096461"/>
      </c:barChart>
      <c:catAx>
        <c:axId val="61662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96461"/>
        <c:crosses val="autoZero"/>
        <c:auto val="1"/>
        <c:lblAlgn val="ctr"/>
        <c:lblOffset val="100"/>
        <c:noMultiLvlLbl val="0"/>
      </c:catAx>
      <c:valAx>
        <c:axId val="13096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62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55E-9601-448B-BBD6-917A6028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676-F015-4BC0-91F8-1859943B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896-8FFC-4217-9E94-0CE92A61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781-F6AB-43DA-8F1D-0C8E534D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92F-0A79-4299-B5A7-B2395515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D12-9AFE-4C4C-8A4E-F041BE1D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D27-0654-412E-BD3B-02B4EAC0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75A-695F-4DBF-8EC7-41409B03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A10-7BC1-486F-BFD5-B7AA8AC6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452-3980-44C7-95BD-49121ECC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BC2-8377-4ED6-8971-E6ADF931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272-F849-4BDC-A74E-E6A813E0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FF6A6-FEAC-4321-967B-6CD5573610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